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627-58DD-4D77-B866-9D3B76C8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A08-273F-4115-9928-FE0CAEF5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70C-0F27-4362-BD04-C219A92B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74E-BB5A-463B-8587-588E227B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86E7-5717-4BFF-9F99-126E5368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AD72-A4BC-4215-9A50-08BBB27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B5D1-1FBC-47F4-AB6C-03858695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8B1B-3C7A-47EF-B76D-31A09E9E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8CD5-4FDA-4766-BC4B-9B48688B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15E-C5A2-43BA-9FD4-2D2E085C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1BA7-6A2D-4395-9120-7873E99E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FEA-626D-4DE4-8DF3-A3305F28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EB88-047F-470D-8412-E4C4D550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8608-DE82-4135-9F7D-3645090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BCB9-6A67-4974-B23D-EB1FD530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7902-013D-487F-80ED-75416D70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08F9-5E0E-43C5-8F54-B02A04E3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45D-1C48-4478-8112-8FCB416A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490-9235-4DDB-848D-A123A807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A5C-45B3-4B75-A506-92145387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601-2A7D-4AF2-8C25-6EB827CB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E82-D5D6-4BBE-B522-BBBABA12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4A3-E1CC-43FF-9DB0-45CA04B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D89-186F-45E0-B6C9-3CC3F85A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306A-9AD4-40C0-9616-C21835CDB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359F-EDBB-4CE5-B583-17E2EC874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ttributes of an Inven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98160" y="6172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ten by Roland Willi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5238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2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26320" cy="5029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676520" y="57150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Invention Discuss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eat Thinker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ir Inven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ter Greenw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e Dicks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rence Cr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iam Russell Frisb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BD06727_"/>
          <p:cNvPicPr/>
          <p:nvPr/>
        </p:nvPicPr>
        <p:blipFill>
          <a:blip r:embed="rId1"/>
          <a:stretch/>
        </p:blipFill>
        <p:spPr>
          <a:xfrm>
            <a:off x="4572000" y="1905120"/>
            <a:ext cx="1658880" cy="147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HM00172_"/>
          <p:cNvPicPr/>
          <p:nvPr/>
        </p:nvPicPr>
        <p:blipFill>
          <a:blip r:embed="rId2"/>
          <a:stretch/>
        </p:blipFill>
        <p:spPr>
          <a:xfrm>
            <a:off x="4038480" y="3809880"/>
            <a:ext cx="808200" cy="932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BD20094_"/>
          <p:cNvPicPr/>
          <p:nvPr/>
        </p:nvPicPr>
        <p:blipFill>
          <a:blip r:embed="rId3"/>
          <a:stretch/>
        </p:blipFill>
        <p:spPr>
          <a:xfrm>
            <a:off x="3886200" y="3962520"/>
            <a:ext cx="1862280" cy="19587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2563920" y="3056040"/>
            <a:ext cx="401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1" descr="crystomintroll"/>
          <p:cNvPicPr/>
          <p:nvPr/>
        </p:nvPicPr>
        <p:blipFill>
          <a:blip r:embed="rId4"/>
          <a:stretch/>
        </p:blipFill>
        <p:spPr>
          <a:xfrm>
            <a:off x="5791320" y="3809880"/>
            <a:ext cx="1884240" cy="2132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frisbee1"/>
          <p:cNvPicPr/>
          <p:nvPr/>
        </p:nvPicPr>
        <p:blipFill>
          <a:blip r:embed="rId5"/>
          <a:stretch/>
        </p:blipFill>
        <p:spPr>
          <a:xfrm>
            <a:off x="6781680" y="2436840"/>
            <a:ext cx="1676520" cy="1660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3"/>
          <p:cNvSpPr/>
          <p:nvPr/>
        </p:nvSpPr>
        <p:spPr>
          <a:xfrm>
            <a:off x="1752480" y="5943600"/>
            <a:ext cx="80773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s were retrieved from http://z.about.com/d/inventors/1/0/P/5/frisbee1.jpg, http://www.candydirect.com/mints/Lifesavers-Rolls-CrystOMint.html,  and the                     Microsoft Clip Art Gall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FD01167_"/>
          <p:cNvPicPr/>
          <p:nvPr/>
        </p:nvPicPr>
        <p:blipFill>
          <a:blip r:embed="rId6"/>
          <a:stretch/>
        </p:blipFill>
        <p:spPr>
          <a:xfrm>
            <a:off x="6705720" y="2057400"/>
            <a:ext cx="16984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19320" y="236232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n inventor special and what are their impacts on our societ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GP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R-II-5: Students will examine the impacts of inventions and innovations on socie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Knowledge/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 the societal impacts of a specific invention or inno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Analyze positive and negative effects of inventions and innov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236232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n inventor special and what are their impacts on our societ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762120" y="1066680"/>
            <a:ext cx="3581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v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cietal Imp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ialization of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648320" y="1066680"/>
            <a:ext cx="380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tifa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gineering Design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tifacts: What do they reveal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26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rtifact is a human made object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ifacts found at archaeological sites tell a lot about the people, their culture, and their socie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artifacts found include tools, pottery, and personal eff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15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ifacts can reveal who the people were, what they ate, how they used tools, how they worked together, and their inventions and innov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TR00405_"/>
          <p:cNvPicPr/>
          <p:nvPr/>
        </p:nvPicPr>
        <p:blipFill>
          <a:blip r:embed="rId1"/>
          <a:stretch/>
        </p:blipFill>
        <p:spPr>
          <a:xfrm>
            <a:off x="4495680" y="502920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D19993_"/>
          <p:cNvPicPr/>
          <p:nvPr/>
        </p:nvPicPr>
        <p:blipFill>
          <a:blip r:embed="rId2"/>
          <a:stretch/>
        </p:blipFill>
        <p:spPr>
          <a:xfrm>
            <a:off x="6248520" y="4952880"/>
            <a:ext cx="19494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685800" y="1066680"/>
            <a:ext cx="75438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are the personal attributes of an inventor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ributes are the characteristics of a person.  What makes them specia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219320" y="1066680"/>
            <a:ext cx="6705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ttributes:  The characteristics of a person.  What makes them special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2514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the handout, read one of the four vignettes from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“Great Thinkers and Their Inventions” a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mplete the “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ttributes Worksheet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the need or desire satisfied by the inventions and other societal imp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etal Impacts – How people and products affect the way we l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486400" y="56386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andouts: Great Thinkers and Their Inven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ttributes Workshe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1:37:09Z</dcterms:created>
  <dc:creator>Pamela J. Brown</dc:creator>
  <dc:description/>
  <dc:language>en-US</dc:language>
  <cp:lastModifiedBy>CTAE User</cp:lastModifiedBy>
  <dcterms:modified xsi:type="dcterms:W3CDTF">2010-02-08T18:27:28Z</dcterms:modified>
  <cp:revision>31</cp:revision>
  <dc:subject/>
  <dc:title>INVENTION</dc:title>
</cp:coreProperties>
</file>